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2C1-0528-47B9-A25A-AF3677C0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284-B9AE-4AAC-AEC6-AEB55CE9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02F-947C-4335-B346-21057675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720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06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40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720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06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633-3A6D-4534-9E93-A3B134A9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F92-4C9B-4CED-809F-743D2F82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321-9CD7-4B68-AFD2-6CE17AF4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802-B316-4872-A50F-EDB8C142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ECC6-BCE9-454C-87C8-F17F2358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080" y="151920"/>
            <a:ext cx="88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E7D-D721-478B-A288-82F7170B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02CA-7D0A-4B99-A553-904FA49F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57D-E576-467B-B17D-92EACD9D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772-E4FD-4381-8B0B-E8FC8DC1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000A-AE46-441A-9E10-C14D17D7CDA2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@2006, BenQ Mobile – Product House Europe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fld id="{84B4795D-D06B-434D-A556-8AFA87427B25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560" y="2158560"/>
            <a:ext cx="846108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nion"/>
              </a:rPr>
              <a:t>Product House Europe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Minion"/>
              </a:rPr>
              <a:t>EF81 – Production Plan / Operator Approval / EXIT-Stability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OPC-Europe Repor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58920" y="5037120"/>
            <a:ext cx="359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Mario T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14. Februar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roduction Plan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Production start to be achieved in cw07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826920"/>
            <a:ext cx="8015400" cy="5399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27640" y="2637000"/>
            <a:ext cx="360360" cy="360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Component Delivery Plan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Production volumes after DS not secured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884160"/>
            <a:ext cx="8456400" cy="4849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5757840"/>
            <a:ext cx="82774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lvl="1" marL="145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Giving example above – already end of Feb we run in component shortage for upcoming production in March/Apr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Operator Approval Plan EF81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Tremendous number of parallel approval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898560"/>
            <a:ext cx="8456760" cy="3871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4857840"/>
            <a:ext cx="82774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1st 18 variants have to be approved till cw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o achieve this approval plan an excellent collaboration between ST/SW/PM has to be impleme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perator Approval Plan EF81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Tremendous number of parallel approvals planned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898560"/>
            <a:ext cx="8456760" cy="3708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4857840"/>
            <a:ext cx="82774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2nd 18 variants have to be approved till cw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o achieve this approval plan an excellent collaboration between ST/SW/PM has to be impleme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7892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EXIT Stability EF81 significantly better compared to S75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Minion"/>
              </a:rPr>
              <a:t>Number of open defects still too high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Minion"/>
              </a:rPr>
              <a:t> ~950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Results from SMS on EXIT Team / SW-Project Team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6888240" cy="4680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5913360"/>
            <a:ext cx="8277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urrent nCCPi is 198.000 – thereof 120 defects /w RPN&gt;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5661000"/>
            <a:ext cx="8277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urrent nCCPi is 198.000 – thereof 120 defects /w RPN&gt;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EF81 – Main Problem Area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Beside expected Operator defects – main issues are still weaknesses from SXG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988920"/>
            <a:ext cx="878544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1774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1-R3 – Ranking: AS/S3/DS-relevant (~375 defect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4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1-R3 prioritized defects are essenti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e-mails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MS/ SMS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rowser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DRM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cessory support (various car kits, Audio Quality)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 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PM, file transfer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Streaming (functionality available, seems to be setting probl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Clam shell topics (Kestrel specif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Memory leaks (Kestrel specif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4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4 basically nice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xt Steps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Operational Excellence is required to secure launch in March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981000"/>
            <a:ext cx="827748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Declare S3-HW in cw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art production in cw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art VF-approval phase A in cw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op immediately finger pointing in all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utting “own” function on save side doesn’t help the company at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place project manager if they cannot perform the last m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s of Wednesday Feb 15th a TTM-Team will be established under lead of  TPM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     which will secure AI-tracking on daily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inion"/>
                <a:ea typeface="文鼎中黑"/>
              </a:rPr>
              <a:t>We can launch EF81 in March if we all focu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Kai Fischer</dc:creator>
  <dc:description/>
  <dc:language>en-US</dc:language>
  <cp:lastModifiedBy>Mario Topel</cp:lastModifiedBy>
  <dcterms:modified xsi:type="dcterms:W3CDTF">2006-02-14T17:44:31Z</dcterms:modified>
  <cp:revision>155</cp:revision>
  <dc:subject/>
  <dc:title>PHE</dc:title>
</cp:coreProperties>
</file>